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ftr" idx="26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94A1-70C0-4CC2-8DB7-23090D3B9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F6D4-8EAF-43D3-A9C0-90C5BC8AE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6C2C-DBEC-406F-B719-288D6CDD4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4148-1595-47D2-8B74-781A849F2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935C-FB02-482C-8ACD-2E3FB20A2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B5EC-13AD-4C20-B68F-FA1F90B52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B97E-AF92-4949-822D-62BFB960D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A13F-7DA0-419E-9870-78B346799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38B7-F2DF-40D5-ABBC-BA1CEF83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D308-4F4B-4FEB-803A-6B5B25FD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B533-F8D3-4DA4-9BB0-5B106FA4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68A1-ABAC-4A51-98D4-3D798CC1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6673-EA40-4F2A-8AD2-BA68F112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4B53-ACBA-4D5E-86BC-5D8E20AA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7C3F-53DB-405A-B3E1-562D16F4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AB6B-56FD-44EE-96AA-162E1DEB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7225-B44D-455D-A48E-C2B13642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6651-B225-4635-A47E-F729F49D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5964-B354-4993-8F03-F3892818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EC16-03E7-49D5-9A71-0C52263D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9584-7CB2-49CA-AF54-F2BC0E87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9539-C248-4381-B9AF-4096776B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2DF1-E2A3-4D54-A3A7-88AECBA62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084B-1F08-4F89-892C-E7D0039C3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EC279-FCDA-40CA-B6AC-63F228AFF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18F19-6C2E-4C52-B918-639D07FE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A5368-5FC3-4156-B78F-7851587D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023BB-7C11-40C0-B1FC-6102C7DF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889A1-63C5-44F4-816D-02061733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43AF-189D-4C6E-A8FF-EF60D368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CF883-652C-4534-970D-CF751490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FB7FC-FAF0-4063-8CA5-5EA78966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C7063-B206-4A9B-8E71-453F5A77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74436-9E2F-45CC-88DC-5AB9E046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39976-C4E4-4870-8EEB-63C70165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BA26F-02E2-4188-8543-8B40EC751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4F22F-E854-4E66-A739-1AF548F4A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09AB27-90F9-433B-BD97-68778D62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E8A3F6-90B2-43D4-95E8-9FA2DC1F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D523F7-A60E-4C5D-8871-E095E464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F7F4-0E4F-4F67-A53A-B3E6C1FD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C4AD84-0B7D-4813-A867-7215B2C2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8E0036-337E-46C4-B87D-F8A02DFC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547EC0-19ED-49AF-9A6B-7095D5D4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B743EF-ABF8-45F5-8667-0E0ACD76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0CE920-8158-4C34-AFEC-67F69267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80351A-E8CA-410D-9010-77F5C922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38BC91-9E3A-477D-95FA-2A081F73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B673C9-5B30-405C-9176-97DF10C1B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AE625F-B065-44D0-B2AD-970E30E42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3EA11-156E-451E-9DD1-3A22BC75D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A4FE-2765-4CAC-858C-7726ED7D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D535C-B533-40A1-8720-8FF17D2D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16067-7D90-4B0A-97D0-3AF06E1C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F701A-7BF1-4540-AF46-41DF1735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FC419-528C-403E-8CFB-61C80EFE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A1C12-2FDB-4C0C-99AF-958FF0B0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84647-C190-425C-B250-CF7754A0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96A56-96EB-4902-B681-221327D3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4887C-CEC1-47DE-9D4E-86C1B6FE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D3D02-DB1B-460C-A8BF-44308163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43E28-906D-454C-BC1C-9A9753D62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3D6E-CE38-42AB-8E97-00AC9052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A5DC1-1B74-4169-B61E-598F87C97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96498B-38BF-4E48-9A2A-57DCB29D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3E2388-2646-4314-A4BC-E81C3091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F138A3-3F2C-4CAD-9882-D9D87509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C4D667-7AD4-4CC4-BF3F-1FF26AD7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442488-B511-4B76-AF22-FDDF5ED9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5CC09A-12BC-4367-B7DA-7ED4790E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3EFB7F-A00B-4F8D-BB19-5922B4DB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EFB333-7539-4DC8-BF80-A70366E0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EB0C01-2C94-4214-A4E0-77EC4BAE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6DC3-75C8-4837-8774-454EFC70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1484FB-4052-41E7-8AF8-D9564EDC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9E1644-A900-4D92-A9F4-A622548D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5790A9-329E-4A32-AD40-1CFE8D40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DED6CB-55D0-4EA1-95C5-8EBBBCC4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A9E895-B38A-4DBA-BB94-AD701D78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8FA90A-40A5-47FB-A594-01BA6F93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BCCAE7-A074-46C7-B3D0-950D3AF9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FA93B9-9F74-40B9-AA04-0921DA08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DBC1F6-85E5-477C-99FA-3C4593DF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906CCC-243C-4784-827F-592CB04D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5E5B-C053-425E-A751-EABF96A6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0A9922-FFB2-4063-B143-8E2841F7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98DE9D-8943-4AB9-8119-55AB162C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D35130-FF68-4119-82D1-A82D04A9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38441C-1554-4CDC-AAE8-09FCFCD9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4F0C21-9116-4887-83E4-B5FE1F87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40B4F1-AE74-4F08-9DBB-DB2368D32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4AA5B3-341E-44F8-B1CE-C0D52FCE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B5395F-1060-4AFF-B8DD-2C6EB225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A8AED4-9C70-4E4D-9DE7-85158EE4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192ABB-C932-4115-856B-60542F11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4F6F-0706-43D0-B08E-826BD784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06920B-391F-4715-85C3-3B1D571F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F8B526-5BC9-4F36-B027-852176FE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DFD1EF-A331-4E1F-97DA-B532830E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26C08A-1D50-4138-BDBC-FCF39FB1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BD0D35-A855-4F36-BE9A-63C97C92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8044DA-EDEF-4E45-B52C-2CFFCE202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A9A6FB-5481-4EF7-BB9A-F3FDAE755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C5FB-E00B-441E-B6FD-6BD8335CF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294F-0FC7-4812-A1F8-C4DEC693B02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CE45-CEA4-47BE-B468-BE24F548414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4990-48A7-4118-A021-943C72E6769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15D2-B984-42C5-86E7-C7D94994AEB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8B36-B135-4CC5-9B32-DE4997CC71F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CCB6-D735-4B10-84F0-A9B5FC7EB48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7AB6-0E95-4B9D-8B8D-7962FBCC393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JUNIOR VOCABULAR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Roots List #11   (5 Word Parts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ICR, MICR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croh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crobiolog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crocos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cromet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crophon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croscop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crofil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mal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 millionth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Picture 4" descr="ohm.jpg"/>
          <p:cNvPicPr/>
          <p:nvPr/>
        </p:nvPicPr>
        <p:blipFill>
          <a:blip r:embed="rId1"/>
          <a:stretch/>
        </p:blipFill>
        <p:spPr>
          <a:xfrm>
            <a:off x="762120" y="5029200"/>
            <a:ext cx="2057400" cy="16765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microbiology.jpg"/>
          <p:cNvPicPr/>
          <p:nvPr/>
        </p:nvPicPr>
        <p:blipFill>
          <a:blip r:embed="rId2"/>
          <a:stretch/>
        </p:blipFill>
        <p:spPr>
          <a:xfrm>
            <a:off x="5562720" y="3352680"/>
            <a:ext cx="1523880" cy="16765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6" descr="microbiologyy.jpg"/>
          <p:cNvPicPr/>
          <p:nvPr/>
        </p:nvPicPr>
        <p:blipFill>
          <a:blip r:embed="rId3"/>
          <a:stretch/>
        </p:blipFill>
        <p:spPr>
          <a:xfrm>
            <a:off x="3581280" y="228600"/>
            <a:ext cx="1600200" cy="11905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" descr="microfilm.jpg"/>
          <p:cNvPicPr/>
          <p:nvPr/>
        </p:nvPicPr>
        <p:blipFill>
          <a:blip r:embed="rId4"/>
          <a:stretch/>
        </p:blipFill>
        <p:spPr>
          <a:xfrm>
            <a:off x="6172200" y="5029200"/>
            <a:ext cx="1523880" cy="16765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8" descr="micrometer.jpg"/>
          <p:cNvPicPr/>
          <p:nvPr/>
        </p:nvPicPr>
        <p:blipFill>
          <a:blip r:embed="rId5"/>
          <a:stretch/>
        </p:blipFill>
        <p:spPr>
          <a:xfrm>
            <a:off x="3505320" y="4800600"/>
            <a:ext cx="1752480" cy="16765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9" descr="microphone.jpg"/>
          <p:cNvPicPr/>
          <p:nvPr/>
        </p:nvPicPr>
        <p:blipFill>
          <a:blip r:embed="rId6"/>
          <a:stretch/>
        </p:blipFill>
        <p:spPr>
          <a:xfrm>
            <a:off x="7162920" y="2362320"/>
            <a:ext cx="1457280" cy="1371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0" descr="microscope.jpg"/>
          <p:cNvPicPr/>
          <p:nvPr/>
        </p:nvPicPr>
        <p:blipFill>
          <a:blip r:embed="rId7"/>
          <a:stretch/>
        </p:blipFill>
        <p:spPr>
          <a:xfrm>
            <a:off x="7010280" y="228600"/>
            <a:ext cx="1533600" cy="1523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ILL, MILLI, MIL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illennium 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ennium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-year or years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lligra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llilit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l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lli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llimet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lliped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 thousan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 thousandth par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4" name="Picture 4" descr="millienium.jpg"/>
          <p:cNvPicPr/>
          <p:nvPr/>
        </p:nvPicPr>
        <p:blipFill>
          <a:blip r:embed="rId1"/>
          <a:stretch/>
        </p:blipFill>
        <p:spPr>
          <a:xfrm>
            <a:off x="6858000" y="4267080"/>
            <a:ext cx="1676520" cy="17337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milligram.jpg"/>
          <p:cNvPicPr/>
          <p:nvPr/>
        </p:nvPicPr>
        <p:blipFill>
          <a:blip r:embed="rId2"/>
          <a:stretch/>
        </p:blipFill>
        <p:spPr>
          <a:xfrm>
            <a:off x="4419720" y="5334120"/>
            <a:ext cx="2743200" cy="12952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million.jpg"/>
          <p:cNvPicPr/>
          <p:nvPr/>
        </p:nvPicPr>
        <p:blipFill>
          <a:blip r:embed="rId3"/>
          <a:stretch/>
        </p:blipFill>
        <p:spPr>
          <a:xfrm>
            <a:off x="3200400" y="508644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7" descr="millipede.jpg"/>
          <p:cNvPicPr/>
          <p:nvPr/>
        </p:nvPicPr>
        <p:blipFill>
          <a:blip r:embed="rId4"/>
          <a:stretch/>
        </p:blipFill>
        <p:spPr>
          <a:xfrm>
            <a:off x="4191120" y="3276720"/>
            <a:ext cx="1752480" cy="12952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8" descr="millipedee.jpg"/>
          <p:cNvPicPr/>
          <p:nvPr/>
        </p:nvPicPr>
        <p:blipFill>
          <a:blip r:embed="rId5"/>
          <a:stretch/>
        </p:blipFill>
        <p:spPr>
          <a:xfrm>
            <a:off x="6553080" y="228600"/>
            <a:ext cx="1847880" cy="1447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ON, MON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onarch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onocle 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1900" spc="-1" strike="noStrike">
                <a:solidFill>
                  <a:srgbClr val="000000"/>
                </a:solidFill>
                <a:latin typeface="Century Schoolbook"/>
              </a:rPr>
              <a:t>ocul- 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the eye or eyes)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onopoly 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1900" spc="-1" strike="noStrike">
                <a:solidFill>
                  <a:srgbClr val="000000"/>
                </a:solidFill>
                <a:latin typeface="Century Schoolbook"/>
              </a:rPr>
              <a:t>poly- 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many; much)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onoplan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onogam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onologu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onotheism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On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state; quality; condition of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On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ingl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lon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2" name="Picture 4" descr="monarch.jpg"/>
          <p:cNvPicPr/>
          <p:nvPr/>
        </p:nvPicPr>
        <p:blipFill>
          <a:blip r:embed="rId1"/>
          <a:stretch/>
        </p:blipFill>
        <p:spPr>
          <a:xfrm>
            <a:off x="6934320" y="1981080"/>
            <a:ext cx="1514520" cy="14479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monocle.jpg"/>
          <p:cNvPicPr/>
          <p:nvPr/>
        </p:nvPicPr>
        <p:blipFill>
          <a:blip r:embed="rId2"/>
          <a:stretch/>
        </p:blipFill>
        <p:spPr>
          <a:xfrm>
            <a:off x="7315200" y="228600"/>
            <a:ext cx="1190520" cy="12952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monoclee.jpg"/>
          <p:cNvPicPr/>
          <p:nvPr/>
        </p:nvPicPr>
        <p:blipFill>
          <a:blip r:embed="rId3"/>
          <a:stretch/>
        </p:blipFill>
        <p:spPr>
          <a:xfrm>
            <a:off x="3657600" y="304920"/>
            <a:ext cx="1047600" cy="11430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7" descr="monologue.jpg"/>
          <p:cNvPicPr/>
          <p:nvPr/>
        </p:nvPicPr>
        <p:blipFill>
          <a:blip r:embed="rId4"/>
          <a:stretch/>
        </p:blipFill>
        <p:spPr>
          <a:xfrm>
            <a:off x="4343400" y="51055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8" descr="monoplane.jpg"/>
          <p:cNvPicPr/>
          <p:nvPr/>
        </p:nvPicPr>
        <p:blipFill>
          <a:blip r:embed="rId5"/>
          <a:stretch/>
        </p:blipFill>
        <p:spPr>
          <a:xfrm>
            <a:off x="4572000" y="3505320"/>
            <a:ext cx="1257480" cy="8762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9" descr="monopoly.jpg"/>
          <p:cNvPicPr/>
          <p:nvPr/>
        </p:nvPicPr>
        <p:blipFill>
          <a:blip r:embed="rId6"/>
          <a:stretch/>
        </p:blipFill>
        <p:spPr>
          <a:xfrm>
            <a:off x="6248520" y="4343400"/>
            <a:ext cx="1914480" cy="198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ORT, MORTU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orta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ortuar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Immorta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ostmorte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Death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o di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1" name="Picture 4" descr="mortal.jpg"/>
          <p:cNvPicPr/>
          <p:nvPr/>
        </p:nvPicPr>
        <p:blipFill>
          <a:blip r:embed="rId1"/>
          <a:stretch/>
        </p:blipFill>
        <p:spPr>
          <a:xfrm>
            <a:off x="2133720" y="3962520"/>
            <a:ext cx="1447560" cy="18288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mortuary.jpg"/>
          <p:cNvPicPr/>
          <p:nvPr/>
        </p:nvPicPr>
        <p:blipFill>
          <a:blip r:embed="rId2"/>
          <a:stretch/>
        </p:blipFill>
        <p:spPr>
          <a:xfrm>
            <a:off x="4572000" y="44197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ULT, MULT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ultocula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ultilatera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ultitude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tude-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large; consisting of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ultipe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ultipl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an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uch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ore tha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6" name="Picture 4" descr="multipedd.jpg"/>
          <p:cNvPicPr/>
          <p:nvPr/>
        </p:nvPicPr>
        <p:blipFill>
          <a:blip r:embed="rId1"/>
          <a:stretch/>
        </p:blipFill>
        <p:spPr>
          <a:xfrm>
            <a:off x="3352680" y="3352680"/>
            <a:ext cx="2210040" cy="13716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5" descr="multiped.jpg"/>
          <p:cNvPicPr/>
          <p:nvPr/>
        </p:nvPicPr>
        <p:blipFill>
          <a:blip r:embed="rId2"/>
          <a:stretch/>
        </p:blipFill>
        <p:spPr>
          <a:xfrm>
            <a:off x="5791320" y="5181480"/>
            <a:ext cx="2133360" cy="14479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6" descr="multipeddd.jpg"/>
          <p:cNvPicPr/>
          <p:nvPr/>
        </p:nvPicPr>
        <p:blipFill>
          <a:blip r:embed="rId3"/>
          <a:stretch/>
        </p:blipFill>
        <p:spPr>
          <a:xfrm>
            <a:off x="838080" y="4495680"/>
            <a:ext cx="1733760" cy="14194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7" descr="multiply.jpg"/>
          <p:cNvPicPr/>
          <p:nvPr/>
        </p:nvPicPr>
        <p:blipFill>
          <a:blip r:embed="rId4"/>
          <a:stretch/>
        </p:blipFill>
        <p:spPr>
          <a:xfrm>
            <a:off x="3581280" y="4876920"/>
            <a:ext cx="1514520" cy="18907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8" descr="multocular.jpg"/>
          <p:cNvPicPr/>
          <p:nvPr/>
        </p:nvPicPr>
        <p:blipFill>
          <a:blip r:embed="rId5"/>
          <a:stretch/>
        </p:blipFill>
        <p:spPr>
          <a:xfrm>
            <a:off x="6095880" y="3657600"/>
            <a:ext cx="2133720" cy="16858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9" descr="multocularr.jpg"/>
          <p:cNvPicPr/>
          <p:nvPr/>
        </p:nvPicPr>
        <p:blipFill>
          <a:blip r:embed="rId6"/>
          <a:stretch/>
        </p:blipFill>
        <p:spPr>
          <a:xfrm>
            <a:off x="6629400" y="457200"/>
            <a:ext cx="1581120" cy="1295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7:47:44Z</dcterms:created>
  <dc:creator>James Mitchell</dc:creator>
  <dc:description/>
  <dc:language>en-US</dc:language>
  <cp:lastModifiedBy>Nvasquez</cp:lastModifiedBy>
  <dcterms:modified xsi:type="dcterms:W3CDTF">2011-04-08T19:53:52Z</dcterms:modified>
  <cp:revision>32</cp:revision>
  <dc:subject/>
  <dc:title>Roots List #1</dc:title>
</cp:coreProperties>
</file>